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0038-3FB1-48D3-9BCE-6BF59706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D9C3-35D8-4819-B9B0-2A27067A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552B-9B23-4F91-97FD-EA5E424F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FBA2-5A16-4B7D-8530-2E583ABB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63EC-BDBA-476B-8F51-323A8551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3CEC-4E49-41A4-8B67-EA207B94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7830-218A-4677-B563-F1C0A7ED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F0E6-5AD1-40DE-ACE3-24403E67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8939-A433-446B-B569-92BE936E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F965-402C-45DB-9C14-A1E7E84A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43D0-993E-47BD-A123-E8D12E38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7302-BA5D-4218-8EE0-809FA611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650E-1D01-4101-AF0D-3B842057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1E97-93CA-404E-81BF-27AC3C0A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EAB5-DD1D-45A9-A7DD-910B5099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CC8A-F465-40B8-BF69-94B09F53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085D-C550-4ABA-AD03-E328AB43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CF31-F507-4F79-9F81-72A3F475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7C6D-BFCA-459B-8FA1-1E3AC282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20B8-6120-40AA-BC9A-8926E710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1043-B037-44C1-87B7-E96AAB92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E75B-52D9-4036-8CDF-62600352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220B-C0AE-4E95-A69D-5E332932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E34F-B4AE-497B-BE2B-9F3FFA16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971A-CFF3-4B86-A8FE-2C5A4A48696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425E-1AC5-497F-9551-5F6925FB0BC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tel for Dog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y: Louis Dunc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a fiction b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book is about two kids Bruce and Andi. They just moved from Alberque to Elmwood with there Aunt Alice. Then they find some stray dogs and keep them In a vacant house down the street.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commend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highly recommend this book to all dog lovers because it is funny, exciting, and a great kids b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20:55:48Z</dcterms:created>
  <dc:creator>Garry Sawka</dc:creator>
  <dc:description/>
  <dc:language>en-US</dc:language>
  <cp:lastModifiedBy>Garry Sawka</cp:lastModifiedBy>
  <dcterms:modified xsi:type="dcterms:W3CDTF">2011-10-09T19:21:23Z</dcterms:modified>
  <cp:revision>3</cp:revision>
  <dc:subject/>
  <dc:title> Hotel for Dogs</dc:title>
</cp:coreProperties>
</file>